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72C-40A0-446C-98F5-3E814A30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BB9-B77C-4D02-BD72-4D23553B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146-5BE7-4DC6-8F37-6BCF04DB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4A4-FEFB-4E11-85B7-8DE2BCFA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6951-001E-4859-88A6-51EBDFBD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0DF6-E323-431A-B2C3-9A00CB84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A1CD-10C8-476C-B749-85A6E97A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446F-95B6-465F-91FB-A8F00A97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2FBB-9B35-40DF-A7A2-24C8AAE1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47B4-53B9-4D60-9A0A-45363C3A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1050-09BA-474F-B1A1-8475B404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94E-C68E-408E-978D-67414EF6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A5AC-0BBB-446A-8174-FEB50085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3180-5B1D-4841-832C-42BFDE5D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20F9-306E-495B-AB90-FF514A46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7AAE-F36D-4B6F-944C-AB27FE37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FBF2-BB55-4009-8AAE-9BA926E9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A81-0D2E-425D-8308-8379E358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071-048D-4909-A78E-BE58C315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33C-928E-47EE-8CA2-C784323B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4D4-1559-402D-B3CF-4F8D77C3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EE1-086B-4F52-9329-B6928D52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3D6-088A-4E75-B0E5-BBF2B6BB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F11-E2EA-462D-A825-568C1C1E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EBBE-2E76-4141-9AB5-69E726DDC92D}" type="slidenum"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00AB-D1A7-42F0-9F9F-A5BFE18751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1.1: Completing the squa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December 3, 2007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y a few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8x-9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3x-7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a few mo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4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8x-7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4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-8x+3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Your assig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Page 722  (10-54 even)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You will be able to…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Solve quadratic equations by using the square root method.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Solve quadratic equations by completing the square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a quadratic equa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A quadratic is a polynomial equation of the second degree. The general form i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a” cannot equal zero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What type of equation would it be if a equaled zero?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4038840" cy="60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by facto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In previous chapters, we factored this type of equation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ry this one: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3x+2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Or this: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-25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square root meth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If 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=k, then.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=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√k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or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x= -√k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Try a few: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  <a:ea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=49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  <a:ea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-5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f it is more difficul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a” may not equal one…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3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-27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2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-4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ometimes you may have complex solutions…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4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re uses for square root meth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You may also have equations in this form: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(x+h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=k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ry these…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(x+2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=7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(x+4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-3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How would you solve the following equations for x?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(x+h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=k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+h=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±√k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x= -h±√k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leting the squa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(x+h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=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2h+h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all quadratics are perfect squares, but you can make a perfect square by: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bx+c=d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bx=d-c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ake b and divide by 2… (this is a constant 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at will be added to both sides)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bx+(b/2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=d-c+(b/2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(x+(b/2)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=d-c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w you can use the square root property to solve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8:30:11Z</dcterms:created>
  <dc:creator>nuhs</dc:creator>
  <dc:description/>
  <dc:language>en-US</dc:language>
  <cp:lastModifiedBy>nuhs</cp:lastModifiedBy>
  <dcterms:modified xsi:type="dcterms:W3CDTF">2007-12-03T21:34:15Z</dcterms:modified>
  <cp:revision>5</cp:revision>
  <dc:subject/>
  <dc:title>11.1: Completing the square </dc:title>
</cp:coreProperties>
</file>